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E53-0B89-430D-8A5F-B27E190C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8A4E-4040-42D1-8BC2-26EC9354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90333-D1D4-4BF5-A0AC-04534E61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6F420-417A-42F1-A190-37A93FE0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3E56D-F6DD-48F0-B091-08B7EDBE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E13AF-9BCD-4E4F-9BD3-8EC0B9FC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282DE-E32A-4651-8511-94ABF8E0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B1158-293A-4A77-84BC-B0DAB0EB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49DEA-D7BC-4944-9C1B-A3A6F572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BD9D5-F1A6-4DE2-90B5-D8625B25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F3D1C-7C45-441C-B752-E61123C2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980E8-1975-4490-8233-FC1FFA8D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5726-1377-4A3A-B144-A9E28A0F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B118B-11A3-4FF8-BBCE-8021F4EB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201AA-2C69-4758-B5F4-596DA60C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7C08A-A16A-41A0-A190-9F845939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34934-D381-4168-B66F-9CB1E048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337F4-B8AD-4DE1-AC0F-D59FDEFD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584A8-02B2-445E-90B4-92282571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798F7-0711-4ADB-929B-254B27AE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A3EE8-4F9A-4D1F-98FD-4791C034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27F65-F773-4960-BA57-BC0BA6C5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459BE-4352-4D47-8500-30F1C3FD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D87-797C-4FE4-9795-943DF727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4D622-3FEB-47BD-A949-BCFDD697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02A1E-561B-47C6-87DB-27EF82EA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476BE-565C-4544-9ED6-304966C2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7E661-BDC7-4482-B6B7-1F8FAB39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600B0-98C5-493D-BD34-62E02636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C947F-736C-473E-99A2-31364148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DAE57-A7FB-400F-AA24-FEF9F126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6C079-5797-4625-AB6B-7143DD68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ECA95-F8C2-4C78-82AB-08814839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B86D3-D00D-445A-884C-43DE2879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820B-70BB-44DE-9DB6-D720EE47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FD88E-F629-4EB7-84E0-FF2F4D25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542C1-F8F1-4ED7-825B-34F8494E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F033C-2953-4281-A2D3-9F69267A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5EED5-C3A6-46D0-83FF-6A8CAF6F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4C313-C758-40B8-BEE7-16845AAC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0F1DC-1165-4701-BD94-75C73F8A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F2D37-0315-4FBD-A844-CED05A29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23E39-B226-4C66-8207-BE7B3F83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9F9BB-4D63-49E6-9FA7-9848D1B0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7E10C-77F1-436E-805D-9C621B79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2749-AF41-48DF-8966-F1402A06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8CAAF-5CEA-478F-966E-E0B6754F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8C861-0C3E-4361-BC66-388C5A86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95C46-8FAA-41E9-A9E8-AB331191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5C16D-8818-4819-B346-6DA5BD8A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52D25-197F-4E54-8ED3-0BBFF732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04EB-7B49-4E56-8006-87DDFBA8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729C-BED1-41CE-A8FD-45701EF1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B475-E442-4F10-9429-2D02512E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1E3F-10CE-4485-B8AA-8976AEF8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B162-B8D1-42AC-B6C4-4CA99F68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C533-8B76-489A-B795-40A0317F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A57D-3132-4C2D-A591-23F83691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D17E-015F-4450-98AB-8630E4C6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7E31-A55B-4271-B78F-D529B8CA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9B3A-B93D-4CD2-B241-40D70166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BC0D-D26C-4B72-A956-CE4B4109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825F9-BA52-4619-9EBF-E81857D5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2FE36-99D1-448A-B9BC-45064643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CC867-5923-46C8-9F16-E6AA9294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B1664-DAC9-47C6-AF6D-D95D40C1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4D858-E095-48C8-85DA-C5489E17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98F3-1A45-48CE-9D85-D3962CEF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982FF-990E-40BB-A064-60540343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5E8DF-2562-4357-992B-D0A956DB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8E5AE-8341-4434-9A5D-6855B250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0F2A4-DD22-4568-AF75-97AD2303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583C6-F60F-4151-9D27-7D4C3D4E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DE8AB-70E9-4723-9990-ECC13758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106B1-D788-43BE-BD88-D24E0C33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DD001-5168-445D-829C-FC95D142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254EA-48A6-44AF-9632-5EB0F525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E997C-5CCB-4024-95F4-6B3A896E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993-CA62-4FBD-A8BF-96E3237B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7293F-4E3B-402E-BCE5-B8E9BF49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41CC7-5431-4A9D-8B7F-4262759B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01C10-44D8-429C-8228-2271F2BC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6EE4E-B628-474A-8A5B-5FC51418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E9B49-A082-4936-9827-C04C93DE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C4B72-B3C6-4F9A-BFF8-68AACF95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1AAAC-F038-4420-AF93-DF13B516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80CC4-D635-44D4-91E0-C1C12867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BDB84-7AEE-40D6-8ABF-E1AEC26E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C3C055-2B65-430F-A3BE-52490774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7B3B-B086-48A9-94E4-0C48C772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80F1F3-ACBD-4C8C-A156-ECF30A2F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C2321D-D1E3-47D5-9BBA-25F73F07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7B48CD-1375-4738-B3D9-CD9C6B37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4C7AAB-845B-4C29-B3D6-F55006B0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19722E-A715-4C28-BBF8-52F684BF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C0B09D-5AAC-41FE-81C4-CC1661F3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08F140-8301-4DE5-AAF9-45195878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E77CBC-6E3C-48A1-BBF2-A3B1F18B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1D21DF-6ADE-461F-8C59-3FB2D72A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FC32BF-84EF-4477-82B9-16A2927C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E889-BF1A-4357-8B59-AF509740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7F2E40-30A6-45EB-915E-9AA21959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13E4D-6231-4AB4-B1E9-2687CDCD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F0C62-6C1C-408A-9435-A8BC7AB5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F05F2-3563-4579-9136-2A6A5F6A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16A5E-1C2E-4149-80DB-89DB775E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A023A-EAE0-487E-BE56-4D285612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7FE11-5608-472A-B706-2B4C8258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C3915-C438-44B0-B3F6-9ABF9C1D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1B45A-BB8F-450B-92A7-36713987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DD933-B488-48DA-AA42-5F57DA05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B90-2699-4192-ACB0-7BE1BEFD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8C47E-E49C-4A56-A865-7BEA4D19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87B24-89D4-486F-A3F3-332BC151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C643E-F70A-452F-BB00-D3C161CC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6CE3F-54ED-4AFD-A473-2C7318CE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0AB2E-C46E-4DC8-AB9B-63F081D5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1A61D-F19C-45BC-A03C-D7B32A8B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308EF-A851-43D0-B619-0823216E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7F77C-A814-4780-A9D1-D7190B14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489F0-210F-4BDD-99A9-8BFDFEAA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CEC26-7BC0-4396-8937-9999377D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1A7A-FEA1-46E3-8687-36D91623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58DD6-9834-4A87-B19D-3EAA0918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51727-C53B-4643-A26D-725AD2F5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15816-E833-496E-B0AB-8732EE96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8A450-C7BF-4E3F-84BB-E27665D7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0FD58-1CA3-4E41-8068-D92ED767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AA5ED-741B-498D-AD1D-15091453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79758-C5D0-4104-BBAE-F34CC18E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2AD97-45D6-47DF-94FC-EB9F538B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B6B15-08E7-45F6-859C-ECF38758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2959B-A3ED-4FF6-B2ED-3F7AD606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A375-60B7-487B-A9A7-3E260E42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0E3D6-1AD8-481E-8BCC-F38B876A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359E9-1002-4E61-9F65-853B61AF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87B1E-C2FD-4E2E-BC17-D305B3AD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EC552-5476-4218-B09C-0227254D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F0F05-963C-411F-890E-8926AB69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1C5B6-A2F0-45C4-890C-F4AFE8D2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A4FF0-8B39-4D30-A10E-89513D02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1C0BC-FB0F-4AB2-A83D-53C357D1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A7A93-CA0C-49F6-8CA6-F6F2CB3F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6B9BF-31A3-4676-85F1-1FF939AF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257B-19BA-4AD2-9E8A-FEAE54B4071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543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8ACB-71BF-4618-951F-4240CAD70D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0F83-03F2-478B-A0C7-E36B2549B2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C6BE-3646-47D9-A095-D45E4FE811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B0A5-74A6-4FFF-AF96-F88A67C77EF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6BBA-F56E-4382-86E8-E4060CC6735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787B-4C5D-480C-B216-C2A56E1A78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3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D236-3EF4-4556-866E-2D6A55B862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0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53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3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D07F-7F90-465A-A3AB-68CD5EF8FF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04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05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08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1613-887F-44D4-B05D-E7A1F64FDB1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52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55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10E1-F775-4607-B780-F0EC9EB9FFC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98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928D-8A21-4EBB-8B29-02D0561F65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Формування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інформатичних компетентностей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студентів ВПНЗ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засобами функціональної мови програмування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he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1258560" y="5013360"/>
            <a:ext cx="77770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Доповідач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асистент кафедри інформатики та прикладної математи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Криворізького державного педагогічного університет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Мінтій Ірина Сергіївн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2439720" y="357120"/>
            <a:ext cx="416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Міністерство освіти і науки Укра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Черкаський технічний уні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743DB-908E-43C0-A6AD-61521DC152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Продовження:</a:t>
            </a:r>
            <a:br>
              <a:rPr sz="2000"/>
            </a:b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Фундаментальні розділи інформатики (Н.В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Морзе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системи штучного інтелекту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комп’ютерне моделюванн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аналіз і моделювання систем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дискретна математик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теоретичне програмуванн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соціальна інформатик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66"/>
                </a:solidFill>
                <a:latin typeface="Comic Sans MS"/>
              </a:rPr>
              <a:t>комп’ютерні комунікації і мережі та глобальна мережа Інтерне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66"/>
                </a:solidFill>
                <a:latin typeface="Comic Sans MS"/>
              </a:rPr>
              <a:t>гіпермедійний дизайн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66"/>
                </a:solidFill>
                <a:latin typeface="Comic Sans MS"/>
              </a:rPr>
              <a:t>програмна інженері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89DE-B21C-4B8A-A5CF-ED03E4CBCB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Інформатичні компетентності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програмуванн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ІКТ-компетентність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математична інформати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EA6E-4C70-48C2-8C5E-BC9D6FC349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1132560" y="644400"/>
            <a:ext cx="629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Математична інформ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75560" y="2571840"/>
            <a:ext cx="374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Програмув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834720" y="4724280"/>
            <a:ext cx="8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І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492360" y="1341360"/>
            <a:ext cx="1584360" cy="129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зв᾽я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92360" y="3213000"/>
            <a:ext cx="1584360" cy="129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зв᾽я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236000" y="907920"/>
            <a:ext cx="1223640" cy="4897440"/>
          </a:xfrm>
          <a:custGeom>
            <a:avLst/>
            <a:gdLst>
              <a:gd name="textAreaLeft" fmla="*/ 163800 w 1223640"/>
              <a:gd name="textAreaRight" fmla="*/ 1059840 w 1223640"/>
              <a:gd name="textAreaTop" fmla="*/ 856800 h 4897440"/>
              <a:gd name="textAreaBottom" fmla="*/ 3550680 h 489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ос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5480-D016-481C-B5B1-C193F71E6C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"/>
          <p:cNvGrpSpPr/>
          <p:nvPr/>
        </p:nvGrpSpPr>
        <p:grpSpPr>
          <a:xfrm>
            <a:off x="1999440" y="107640"/>
            <a:ext cx="4602960" cy="6422040"/>
            <a:chOff x="1999440" y="107640"/>
            <a:chExt cx="4602960" cy="6422040"/>
          </a:xfrm>
        </p:grpSpPr>
        <p:sp>
          <p:nvSpPr>
            <p:cNvPr id="734" name="_s98310"/>
            <p:cNvSpPr/>
            <p:nvPr/>
          </p:nvSpPr>
          <p:spPr>
            <a:xfrm flipV="1">
              <a:off x="3534120" y="106920"/>
              <a:ext cx="1533960" cy="2140920"/>
            </a:xfrm>
            <a:custGeom>
              <a:avLst/>
              <a:gdLst>
                <a:gd name="textAreaLeft" fmla="*/ 550440 w 1533960"/>
                <a:gd name="textAreaRight" fmla="*/ 983520 w 1533960"/>
                <a:gd name="textAreaTop" fmla="*/ 768240 h 2140920"/>
                <a:gd name="textAreaBottom" fmla="*/ 1372680 h 214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99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000000"/>
                  </a:solidFill>
                  <a:latin typeface="Comic Sans MS"/>
                </a:rPr>
                <a:t>ІК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_s98311"/>
            <p:cNvSpPr/>
            <p:nvPr/>
          </p:nvSpPr>
          <p:spPr>
            <a:xfrm flipV="1">
              <a:off x="2766600" y="2247840"/>
              <a:ext cx="3068640" cy="2140200"/>
            </a:xfrm>
            <a:custGeom>
              <a:avLst/>
              <a:gdLst>
                <a:gd name="textAreaLeft" fmla="*/ 674640 w 3068640"/>
                <a:gd name="textAreaRight" fmla="*/ 2394000 w 3068640"/>
                <a:gd name="textAreaTop" fmla="*/ 470520 h 2140200"/>
                <a:gd name="textAreaBottom" fmla="*/ 1669680 h 214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cc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Comic Sans MS"/>
                </a:rPr>
                <a:t>програмуванн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_s98315"/>
            <p:cNvSpPr/>
            <p:nvPr/>
          </p:nvSpPr>
          <p:spPr>
            <a:xfrm flipV="1">
              <a:off x="1999440" y="4388400"/>
              <a:ext cx="4602960" cy="2140920"/>
            </a:xfrm>
            <a:custGeom>
              <a:avLst/>
              <a:gdLst>
                <a:gd name="textAreaLeft" fmla="*/ 798840 w 4602960"/>
                <a:gd name="textAreaRight" fmla="*/ 3804120 w 4602960"/>
                <a:gd name="textAreaTop" fmla="*/ 371520 h 2140920"/>
                <a:gd name="textAreaBottom" fmla="*/ 1769400 h 214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Comic Sans MS"/>
                </a:rPr>
                <a:t>математична інформатик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38FF-FCEF-4972-8170-A6215D4F5D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773080" y="644400"/>
            <a:ext cx="29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Матем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545840" y="2571840"/>
            <a:ext cx="53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Функціональний підхі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7080" y="4659480"/>
            <a:ext cx="747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Програмування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функціональною мовою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851280" y="1341360"/>
            <a:ext cx="792000" cy="1295640"/>
          </a:xfrm>
          <a:prstGeom prst="downArrow">
            <a:avLst>
              <a:gd name="adj1" fmla="val 50000"/>
              <a:gd name="adj2" fmla="val 4089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781440" y="3213000"/>
            <a:ext cx="934920" cy="1295640"/>
          </a:xfrm>
          <a:prstGeom prst="downArrow">
            <a:avLst>
              <a:gd name="adj1" fmla="val 50000"/>
              <a:gd name="adj2" fmla="val 3464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E8B98F-6E4D-4B8D-AC53-536F915399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Гарний стиль програмуван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just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атування коду, підкреслення його структури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лідовність в застосуванні відступі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користання природної форми виразі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користання дужок для усунення неточностей та розбиття складних виразі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ережність з побічними ефект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4CE1A5-A77F-44F1-A4C6-021037D52E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987280" y="905040"/>
            <a:ext cx="5699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тування коду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ідкреслення структури, послідовність в застосуванні відсту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4573440"/>
            <a:ext cx="82296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втоматичне визначення величини відступ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575600" y="285264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Scheme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278280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0008E0-4C99-4712-8DF6-BCDAA33BE6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987280" y="115920"/>
            <a:ext cx="5699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ористання природної форми вираз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82800" cy="299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0" name=""/>
          <p:cNvGraphicFramePr/>
          <p:nvPr/>
        </p:nvGraphicFramePr>
        <p:xfrm>
          <a:off x="2843280" y="1684440"/>
          <a:ext cx="5976720" cy="4768920"/>
        </p:xfrm>
        <a:graphic>
          <a:graphicData uri="http://schemas.openxmlformats.org/drawingml/2006/table">
            <a:tbl>
              <a:tblPr/>
              <a:tblGrid>
                <a:gridCol w="1871280"/>
                <a:gridCol w="1871640"/>
                <a:gridCol w="2233800"/>
              </a:tblGrid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.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.f(x,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y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da(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 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 x y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*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*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* 3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+ 3 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+ 3 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 2 3 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3 –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3 –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– 1 3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/ 3 /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/ 3 /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/ 2 3 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3– 4 +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5 *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3– 4 +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5 *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 (– 6 3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* 4 5 2)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D8768-AF80-44FE-A61B-FEDC336095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833200" y="689040"/>
            <a:ext cx="613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ористання дужок для усунення неточносте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збиття складних вираз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82800" cy="299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3" name=""/>
          <p:cNvGraphicFramePr/>
          <p:nvPr/>
        </p:nvGraphicFramePr>
        <p:xfrm>
          <a:off x="2195640" y="3502080"/>
          <a:ext cx="6095880" cy="16556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16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+6*3−2*4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– (* 6 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* 2 4))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C0E716-5F4B-4EC7-A30F-FF2B11AA8C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987280" y="905040"/>
            <a:ext cx="5699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режність з побічними ефек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06400" y="429228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сутність побічних ефекті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851360" y="2549520"/>
            <a:ext cx="16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me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8280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98B846-9BF7-4C48-A9AD-4EAAC15C55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Результат освіти – система компетентностей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3212640"/>
            <a:ext cx="769608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ключові:                    </a:t>
            </a: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загальнопредметні:   </a:t>
            </a: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+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предметні:                 </a:t>
            </a: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-+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539640" y="227664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Стан розробки компетентностей в Україн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7894-6FD9-494F-80F3-A4241BFD6F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63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Здатність</a:t>
            </a:r>
            <a:br>
              <a:rPr sz="4000"/>
            </a:b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до поетапного розв’язування поставленої задачі</a:t>
            </a:r>
            <a:br>
              <a:rPr sz="4000"/>
            </a:b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(розбиття на підзадачі)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E821E-2332-4445-844F-968E684EF0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дача:</a:t>
            </a:r>
            <a:br>
              <a:rPr sz="44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найти час польоту тіла, кинутого під кутом до горизонту з висо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і сталою швидкістю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179280" y="2398680"/>
            <a:ext cx="6767640" cy="427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3995640" y="1413000"/>
                <a:ext cx="34797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h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r>
                          <m:t xml:space="preserve">V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t</m:t>
                    </m:r>
                    <m:r>
                      <m:t xml:space="preserve">+</m:t>
                    </m:r>
                    <m:limUpp>
                      <m:e>
                        <m:r>
                          <m:t xml:space="preserve">g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f>
                      <m:num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3922560" y="2637000"/>
                <a:ext cx="532944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g</m:t>
                    </m:r>
                    <m:f>
                      <m:num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3A5BE5-E6DE-4B51-9EF4-F22D7E95D0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Етапи розв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᾽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язування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. Знаходження дискримінанту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5" name=""/>
          <p:cNvGraphicFramePr/>
          <p:nvPr/>
        </p:nvGraphicFramePr>
        <p:xfrm>
          <a:off x="179280" y="2276640"/>
          <a:ext cx="8820360" cy="2330280"/>
        </p:xfrm>
        <a:graphic>
          <a:graphicData uri="http://schemas.openxmlformats.org/drawingml/2006/table">
            <a:tbl>
              <a:tblPr/>
              <a:tblGrid>
                <a:gridCol w="2448000"/>
                <a:gridCol w="2879640"/>
                <a:gridCol w="3492720"/>
              </a:tblGrid>
              <a:tr h="23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= b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4*a*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4*a*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fine 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mbda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− (* b b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* 4 a c)))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6" name=""/>
          <p:cNvSpPr/>
          <p:nvPr/>
        </p:nvSpPr>
        <p:spPr>
          <a:xfrm>
            <a:off x="2411280" y="4776840"/>
            <a:ext cx="41054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defi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 b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− (* b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* 4 a c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C5B3AC-92E2-4642-BC4C-779FF5E4F7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2. Знаходження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1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oot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106200" y="2637000"/>
          <a:ext cx="8929800" cy="2055600"/>
        </p:xfrm>
        <a:graphic>
          <a:graphicData uri="http://schemas.openxmlformats.org/drawingml/2006/table">
            <a:tbl>
              <a:tblPr/>
              <a:tblGrid>
                <a:gridCol w="2448000"/>
                <a:gridCol w="2879640"/>
                <a:gridCol w="3602160"/>
              </a:tblGrid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(-b+√D)/(2*a)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fine (root1 a b 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/ (+ (* −1 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qrt (D a b c))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* 2 a))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71280" y="3068640"/>
                <a:ext cx="255600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ot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4803FF-E8D1-417C-B90C-6082586271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загальнена функці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23640" y="1828440"/>
            <a:ext cx="80643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define (quadratic a b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cond ((&lt; (D a b c)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'(Действительных корней не существует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(= (D a b c) 0) (root1 a b c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else (list (root1 a b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root2 a b c))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0F3C87-5060-41D3-8BAD-9EFE0E7953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define g 9.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define (time-to-impact h v alph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let ((a (/ (* −1 g) 2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b (* v (sin alpha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c h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if (&lt; (D a b c)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'(Неправильные дан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root2 a b c)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AAC171-476B-4D81-9804-5886BA7E0A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898280" y="2420640"/>
            <a:ext cx="5986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Абстрактне мислення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BFBB2-8CCD-4C80-942D-9CBE245593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4720" y="468000"/>
            <a:ext cx="69120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екурсі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дача: знайт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-й спосіб: лінійно рекурсивний проц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!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·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− 1) ·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− 2) ·…·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· 2 ·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define (factorial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if (= n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* n (factorial (– n 1))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030D97-C225-4FA9-ADCF-E3B710859F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10920" y="11592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екурсі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555920" y="1267920"/>
            <a:ext cx="7696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дача: знайт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-й спосіб: лінійно ітеративний проц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!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− 1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fine (factorial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fine (iter result coun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f (&gt; counter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ter (* counter resul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+ counter 1)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ter 1 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4ECF52-1743-43F0-84D3-1C73A9E19B9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Використання функцій як параметр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Знайти суму цілих чисел від a до 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define (sum-integers 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if (&gt; 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+ a (sum-integers (+ a 1) b)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16F993-C306-409D-B33B-7BA4ECD403F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574560" y="333360"/>
            <a:ext cx="7453080" cy="5943240"/>
            <a:chOff x="574560" y="333360"/>
            <a:chExt cx="7453080" cy="5943240"/>
          </a:xfrm>
        </p:grpSpPr>
        <p:cxnSp>
          <p:nvCxnSpPr>
            <p:cNvPr id="679" name="_s101419"/>
            <p:cNvCxnSpPr>
              <a:stCxn id="680" idx="1"/>
              <a:endCxn id="681" idx="2"/>
            </p:cNvCxnSpPr>
            <p:nvPr/>
          </p:nvCxnSpPr>
          <p:spPr>
            <a:xfrm rot="10800000">
              <a:off x="1638360" y="1476360"/>
              <a:ext cx="355680" cy="4572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2" name="_s101420"/>
            <p:cNvCxnSpPr>
              <a:stCxn id="683" idx="0"/>
              <a:endCxn id="684" idx="2"/>
            </p:cNvCxnSpPr>
            <p:nvPr/>
          </p:nvCxnSpPr>
          <p:spPr>
            <a:xfrm flipV="1" rot="16200000">
              <a:off x="5517000" y="-426240"/>
              <a:ext cx="229320" cy="2662560"/>
            </a:xfrm>
            <a:prstGeom prst="bentConnector3">
              <a:avLst>
                <a:gd name="adj1" fmla="val 501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5" name="_s101421"/>
            <p:cNvCxnSpPr>
              <a:stCxn id="686" idx="1"/>
              <a:endCxn id="681" idx="2"/>
            </p:cNvCxnSpPr>
            <p:nvPr/>
          </p:nvCxnSpPr>
          <p:spPr>
            <a:xfrm rot="10800000">
              <a:off x="1638360" y="1476360"/>
              <a:ext cx="355680" cy="182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7" name="_s101422"/>
            <p:cNvCxnSpPr>
              <a:stCxn id="688" idx="1"/>
              <a:endCxn id="681" idx="2"/>
            </p:cNvCxnSpPr>
            <p:nvPr/>
          </p:nvCxnSpPr>
          <p:spPr>
            <a:xfrm rot="10800000">
              <a:off x="1638360" y="1476360"/>
              <a:ext cx="355680" cy="388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9" name="_s101423"/>
            <p:cNvCxnSpPr>
              <a:stCxn id="690" idx="1"/>
              <a:endCxn id="691" idx="2"/>
            </p:cNvCxnSpPr>
            <p:nvPr/>
          </p:nvCxnSpPr>
          <p:spPr>
            <a:xfrm rot="10800000">
              <a:off x="4478040" y="1475640"/>
              <a:ext cx="355320" cy="3201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2" name="_s101424"/>
            <p:cNvCxnSpPr>
              <a:stCxn id="693" idx="1"/>
              <a:endCxn id="691" idx="2"/>
            </p:cNvCxnSpPr>
            <p:nvPr/>
          </p:nvCxnSpPr>
          <p:spPr>
            <a:xfrm rot="10800000">
              <a:off x="4478040" y="1475640"/>
              <a:ext cx="355320" cy="251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4" name="_s101425"/>
            <p:cNvCxnSpPr>
              <a:stCxn id="695" idx="1"/>
              <a:endCxn id="691" idx="2"/>
            </p:cNvCxnSpPr>
            <p:nvPr/>
          </p:nvCxnSpPr>
          <p:spPr>
            <a:xfrm rot="10800000">
              <a:off x="4478040" y="1475640"/>
              <a:ext cx="355320" cy="183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6" name="_s101426"/>
            <p:cNvCxnSpPr>
              <a:stCxn id="697" idx="1"/>
              <a:endCxn id="691" idx="2"/>
            </p:cNvCxnSpPr>
            <p:nvPr/>
          </p:nvCxnSpPr>
          <p:spPr>
            <a:xfrm rot="10800000">
              <a:off x="4478040" y="1475640"/>
              <a:ext cx="355320" cy="114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8" name="_s101427"/>
            <p:cNvCxnSpPr>
              <a:stCxn id="699" idx="1"/>
              <a:endCxn id="691" idx="2"/>
            </p:cNvCxnSpPr>
            <p:nvPr/>
          </p:nvCxnSpPr>
          <p:spPr>
            <a:xfrm rot="10800000">
              <a:off x="4478040" y="1475640"/>
              <a:ext cx="355320" cy="45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0" name="_s101428"/>
            <p:cNvCxnSpPr>
              <a:stCxn id="691" idx="0"/>
              <a:endCxn id="684" idx="2"/>
            </p:cNvCxnSpPr>
            <p:nvPr/>
          </p:nvCxnSpPr>
          <p:spPr>
            <a:xfrm flipV="1" rot="16200000">
              <a:off x="4275360" y="816120"/>
              <a:ext cx="229320" cy="178200"/>
            </a:xfrm>
            <a:prstGeom prst="bentConnector3">
              <a:avLst>
                <a:gd name="adj1" fmla="val 501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1" name="_s101429"/>
            <p:cNvCxnSpPr>
              <a:stCxn id="702" idx="1"/>
              <a:endCxn id="681" idx="2"/>
            </p:cNvCxnSpPr>
            <p:nvPr/>
          </p:nvCxnSpPr>
          <p:spPr>
            <a:xfrm rot="10800000">
              <a:off x="1638360" y="1476360"/>
              <a:ext cx="355680" cy="320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3" name="_s101430"/>
            <p:cNvCxnSpPr>
              <a:stCxn id="704" idx="1"/>
              <a:endCxn id="681" idx="2"/>
            </p:cNvCxnSpPr>
            <p:nvPr/>
          </p:nvCxnSpPr>
          <p:spPr>
            <a:xfrm rot="10800000">
              <a:off x="1638360" y="1476360"/>
              <a:ext cx="355680" cy="251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5" name="_s101431"/>
            <p:cNvCxnSpPr>
              <a:stCxn id="706" idx="1"/>
              <a:endCxn id="681" idx="2"/>
            </p:cNvCxnSpPr>
            <p:nvPr/>
          </p:nvCxnSpPr>
          <p:spPr>
            <a:xfrm rot="10800000">
              <a:off x="1638360" y="1476360"/>
              <a:ext cx="355680" cy="1143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7" name="_s101432"/>
            <p:cNvCxnSpPr>
              <a:stCxn id="708" idx="1"/>
              <a:endCxn id="681" idx="2"/>
            </p:cNvCxnSpPr>
            <p:nvPr/>
          </p:nvCxnSpPr>
          <p:spPr>
            <a:xfrm rot="10800000">
              <a:off x="1638360" y="1476360"/>
              <a:ext cx="355680" cy="4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9" name="_s101433"/>
            <p:cNvCxnSpPr>
              <a:stCxn id="681" idx="0"/>
              <a:endCxn id="684" idx="2"/>
            </p:cNvCxnSpPr>
            <p:nvPr/>
          </p:nvCxnSpPr>
          <p:spPr>
            <a:xfrm flipH="1" flipV="1" rot="5400000">
              <a:off x="2855160" y="-425880"/>
              <a:ext cx="229320" cy="2662200"/>
            </a:xfrm>
            <a:prstGeom prst="bentConnector3">
              <a:avLst>
                <a:gd name="adj1" fmla="val 501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4" name="_s101434"/>
            <p:cNvSpPr/>
            <p:nvPr/>
          </p:nvSpPr>
          <p:spPr>
            <a:xfrm>
              <a:off x="1747800" y="333360"/>
              <a:ext cx="5105520" cy="457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Comic Sans MS"/>
                </a:rPr>
                <a:t>Професійні компетентності вчителя інформат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_s101435"/>
            <p:cNvSpPr/>
            <p:nvPr/>
          </p:nvSpPr>
          <p:spPr>
            <a:xfrm>
              <a:off x="574560" y="1020240"/>
              <a:ext cx="2129400" cy="456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ключов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_s101436"/>
            <p:cNvSpPr/>
            <p:nvPr/>
          </p:nvSpPr>
          <p:spPr>
            <a:xfrm>
              <a:off x="1994400" y="1706040"/>
              <a:ext cx="2129400" cy="456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навчаль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_s101437"/>
            <p:cNvSpPr/>
            <p:nvPr/>
          </p:nvSpPr>
          <p:spPr>
            <a:xfrm>
              <a:off x="1994400" y="2391480"/>
              <a:ext cx="2129400" cy="456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соціаль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_s101438"/>
            <p:cNvSpPr/>
            <p:nvPr/>
          </p:nvSpPr>
          <p:spPr>
            <a:xfrm>
              <a:off x="1994400" y="3762720"/>
              <a:ext cx="2129400" cy="456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здоров’язберігаюч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_s101439"/>
            <p:cNvSpPr/>
            <p:nvPr/>
          </p:nvSpPr>
          <p:spPr>
            <a:xfrm>
              <a:off x="1994400" y="4448160"/>
              <a:ext cx="2129400" cy="456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ІК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_s101440"/>
            <p:cNvSpPr/>
            <p:nvPr/>
          </p:nvSpPr>
          <p:spPr>
            <a:xfrm>
              <a:off x="3413880" y="1020240"/>
              <a:ext cx="2129400" cy="4557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загальнопрофесійн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_s101441"/>
            <p:cNvSpPr/>
            <p:nvPr/>
          </p:nvSpPr>
          <p:spPr>
            <a:xfrm>
              <a:off x="4833720" y="1706040"/>
              <a:ext cx="2129400" cy="4557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методич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_s101442"/>
            <p:cNvSpPr/>
            <p:nvPr/>
          </p:nvSpPr>
          <p:spPr>
            <a:xfrm>
              <a:off x="4833720" y="2391480"/>
              <a:ext cx="2129400" cy="456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науково-дослідниць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_s101443"/>
            <p:cNvSpPr/>
            <p:nvPr/>
          </p:nvSpPr>
          <p:spPr>
            <a:xfrm>
              <a:off x="4833720" y="3076920"/>
              <a:ext cx="2132640" cy="456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психолого-педагогіч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_s101444"/>
            <p:cNvSpPr/>
            <p:nvPr/>
          </p:nvSpPr>
          <p:spPr>
            <a:xfrm>
              <a:off x="4833720" y="3762720"/>
              <a:ext cx="2568240" cy="456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організаційно-управлінсь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101445"/>
            <p:cNvSpPr/>
            <p:nvPr/>
          </p:nvSpPr>
          <p:spPr>
            <a:xfrm>
              <a:off x="4833720" y="4448160"/>
              <a:ext cx="2128680" cy="456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ІК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101446"/>
            <p:cNvSpPr/>
            <p:nvPr/>
          </p:nvSpPr>
          <p:spPr>
            <a:xfrm>
              <a:off x="1994400" y="5133600"/>
              <a:ext cx="2129400" cy="457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громадянсь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101447"/>
            <p:cNvSpPr/>
            <p:nvPr/>
          </p:nvSpPr>
          <p:spPr>
            <a:xfrm>
              <a:off x="1994400" y="3076920"/>
              <a:ext cx="2129400" cy="456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загальнокультур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101448"/>
            <p:cNvSpPr/>
            <p:nvPr/>
          </p:nvSpPr>
          <p:spPr>
            <a:xfrm>
              <a:off x="5898240" y="1020240"/>
              <a:ext cx="2129400" cy="4564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omic Sans MS"/>
                </a:rPr>
                <a:t>спеціальні професійн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_s101449"/>
            <p:cNvSpPr/>
            <p:nvPr/>
          </p:nvSpPr>
          <p:spPr>
            <a:xfrm>
              <a:off x="1994400" y="5820120"/>
              <a:ext cx="2128680" cy="456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підприємниць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110840" y="4670640"/>
              <a:ext cx="35316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BB930-760D-49D5-8336-ADEB9D97D3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Знайти суму квадратів цілих чисел від а до 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define (sum-squares 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if (&gt; 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+ (square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sum-squares (+ a 1) b)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890204-DB6E-45C0-A92B-D13C5D2A442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. Знайти суму парних чисел в заданому діапазон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ine (sum-pairs-numbers 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f (&gt; 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+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m-pairs-numbers (+ a 2) b)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F9E697-DDDC-4741-BAFC-686AADFA8F5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блон функції s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define (&lt;ім’я&gt; 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if (&gt; 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+ (&lt;терм&gt;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&lt;ім’я&gt; (&lt;наступне&gt; a) b)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30642C-CB50-40EA-9679-A27ABABF362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Функція, яка виражає загальне поняття сум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define (sum term a next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if (&gt; 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+ (term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sum term (next a) next b)))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9BEE1A-A1D3-4D2B-A077-2531A8AA9E3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7696080" cy="34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m-squa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ine (sum-squares 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m square a inc b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m-inte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ine (sum-integers 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m identity a inc b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8A0FE1-6B57-4A19-9FC6-D6675FEF5DD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рямки подальших досл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жен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робка узагальненої системи компетентностей з програмування та індикаторів їх сформовано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алізація можливості роботи у веб-середовищ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C3AC57-46C2-4AA7-ABFA-4C2EDA30861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684360" y="1628640"/>
            <a:ext cx="7848360" cy="28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якую за увагу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B8FC2-D030-4884-9A06-905D4EBFF77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Структура інформатичних компетентностей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(М.І. Жалдак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інформологічно-методологічні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інформаційно-технологічні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комп’ютерні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дельні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лгоритмічні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A88A-2CD9-40CF-BCEE-41D8671176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Структура інформатичних компетентностей (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.Г. Кіріллов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тематичн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мпетентність користувач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інформаційно-системн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хнічн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мпетентності з програмуванн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E668-ADF4-4877-98EF-E2B6791B4A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440" y="388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Структура інформатичних компетентностей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(департамент освіти штату Огайо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інформаційні служби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ережні системи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грамування та розробка програмного забезпечення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інтерактивні засоби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13EF-74B3-4409-A72C-9D3CA7400A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-324000" y="96480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Структура інформатичних компетентностей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(Північно-східний центр новітніх технологій,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Вашингтон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4360" y="26510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ристувача (ІКТ-компетентності)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граміста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дміністратора комп’ютерної систе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C00D-616A-4963-A816-5713B7A787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Фундаментальні розділи інформатики (М.В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Швецьк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й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00000" y="1712880"/>
            <a:ext cx="82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алгоритм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програмуванн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структури даних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комп’ютерна графіка і обчислювальна геометрі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архітектура ЕОМ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мови програмування: парадигми та організаці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конструювання інтерпретаторів та компіляторі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бази даних та інформаційний пошук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штучний інтелект (програмно-прагматичний підхід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дискретна математика та теорія алгоритмів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472C-5C01-4E70-BF34-47E302BAF4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687096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Фундаментальні розділи інформатики (Н.В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Морзе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447920" y="134136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теоретичні основи інформатик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теорія алгоритмів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структури даних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технологія розробки програмного забезпеченн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архітектура комп’ютерних систем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парадигми програмуванн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комп’ютерна графік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операційні систем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інформаційні систем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теоретичні основи баз даних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FA7D-55B5-46FE-8BBB-C9BD3D3211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9:49:36Z</dcterms:created>
  <dc:creator>SamLab.ws</dc:creator>
  <dc:description/>
  <dc:language>en-US</dc:language>
  <cp:lastModifiedBy>SamLab.ws</cp:lastModifiedBy>
  <dcterms:modified xsi:type="dcterms:W3CDTF">2009-10-15T11:33:41Z</dcterms:modified>
  <cp:revision>16</cp:revision>
  <dc:subject/>
  <dc:title>«Формування інформатичних компетентностей студентів засобами функціональної мови програмування Scheme» </dc:title>
</cp:coreProperties>
</file>